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9.png" ContentType="image/pn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20.jpeg" ContentType="image/jpeg"/>
  <Override PartName="/ppt/media/image18.jpeg" ContentType="image/jpeg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4.jpeg" ContentType="image/jpeg"/>
  <Override PartName="/ppt/media/image2.png" ContentType="image/png"/>
  <Override PartName="/ppt/media/image10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FA0AD5D-F4CF-41DE-B709-036F48E526C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st to Co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wo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y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ac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ordi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2" marL="106272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3" marL="148788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4" marL="191304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5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6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3"/>
          <a:stretch/>
        </p:blipFill>
        <p:spPr>
          <a:xfrm>
            <a:off x="6172200" y="6111720"/>
            <a:ext cx="2971800" cy="7430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 txBox="1"/>
          <p:nvPr/>
        </p:nvSpPr>
        <p:spPr>
          <a:xfrm rot="16219200">
            <a:off x="-1052280" y="2899800"/>
            <a:ext cx="3495960" cy="742680"/>
          </a:xfrm>
          <a:prstGeom prst="rect">
            <a:avLst/>
          </a:prstGeom>
        </p:spPr>
        <p:txBody>
          <a:bodyPr wrap="none" lIns="91800" rIns="91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e9e9ff"/>
                  </a:solidFill>
                  <a:miter/>
                </a:ln>
                <a:solidFill>
                  <a:srgbClr val="e9e9ff"/>
                </a:solidFill>
                <a:latin typeface="Tahoma"/>
              </a:rPr>
              <a:t>Berlin 2001</a:t>
            </a:r>
            <a:endParaRPr b="0" lang="en-US" sz="2400" spc="1" strike="noStrike">
              <a:ln w="9360">
                <a:solidFill>
                  <a:srgbClr val="e9e9ff"/>
                </a:solidFill>
                <a:miter/>
              </a:ln>
              <a:solidFill>
                <a:srgbClr val="e9e9ff"/>
              </a:solidFill>
              <a:latin typeface="Tahoma"/>
              <a:ea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3997800" y="6627960"/>
            <a:ext cx="112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mpany Confidentia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Globe%20image%20for%20ppt2" descr=""/>
          <p:cNvPicPr/>
          <p:nvPr/>
        </p:nvPicPr>
        <p:blipFill>
          <a:blip r:embed="rId4"/>
          <a:srcRect l="0" t="33496" r="47801" b="17383"/>
          <a:stretch/>
        </p:blipFill>
        <p:spPr>
          <a:xfrm>
            <a:off x="0" y="51055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Globe%20image%20for%20ppt3" descr=""/>
          <p:cNvPicPr/>
          <p:nvPr/>
        </p:nvPicPr>
        <p:blipFill>
          <a:blip r:embed="rId2"/>
          <a:srcRect l="0" t="0" r="0" b="36179"/>
          <a:stretch/>
        </p:blipFill>
        <p:spPr>
          <a:xfrm>
            <a:off x="0" y="0"/>
            <a:ext cx="9199440" cy="6864480"/>
          </a:xfrm>
          <a:prstGeom prst="rect">
            <a:avLst/>
          </a:prstGeom>
          <a:ln w="0">
            <a:noFill/>
          </a:ln>
        </p:spPr>
      </p:pic>
      <p:pic>
        <p:nvPicPr>
          <p:cNvPr id="43" name="logo" descr=""/>
          <p:cNvPicPr/>
          <p:nvPr/>
        </p:nvPicPr>
        <p:blipFill>
          <a:blip r:embed="rId3"/>
          <a:stretch/>
        </p:blipFill>
        <p:spPr>
          <a:xfrm>
            <a:off x="6934320" y="6302520"/>
            <a:ext cx="2209680" cy="552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9.png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2.jpe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990000"/>
            <a:ext cx="7772400" cy="21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Tahoma"/>
              </a:rPr>
              <a:t>Total LI Compliance using Turn-key Applications and Solution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114800" y="4010760"/>
            <a:ext cx="5029200" cy="19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ami Mittelma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V.P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Product Market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RELIAN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15" name="RELIANT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934320" cy="51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 - Monitoring Cen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</a:t>
            </a: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17" name="Reliant_Closeup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6807240" cy="5105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00920" y="1136160"/>
            <a:ext cx="120168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Coll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99440" y="2066400"/>
            <a:ext cx="219960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Con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565560" y="2824560"/>
            <a:ext cx="1863000" cy="134244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an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93240" y="4803480"/>
            <a:ext cx="2132640" cy="178452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Tran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rehensive Collec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twork (node) based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Enhanced delivery interfa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ine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runk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Network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156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ine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PST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D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156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S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APMS, DAMP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M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410080" y="1600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156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Packet data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P 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PR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1XRT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3G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EDGE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UMT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Microphone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572000" y="4191120"/>
            <a:ext cx="644400" cy="1600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321760" y="5867280"/>
            <a:ext cx="822240" cy="619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4038480" y="2133720"/>
            <a:ext cx="1189080" cy="9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Communication Type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oic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ephon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icrophon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csimil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5029200" y="2514600"/>
            <a:ext cx="8222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Open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y with Standard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Architectur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eb Based - API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nnection appl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oSys (push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formation Management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520" y="12189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Target Management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User Manage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User’s Access right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targ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Oper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724280" y="1819080"/>
            <a:ext cx="3810240" cy="2403360"/>
            <a:chOff x="4724280" y="1819080"/>
            <a:chExt cx="3810240" cy="2403360"/>
          </a:xfrm>
        </p:grpSpPr>
        <p:pic>
          <p:nvPicPr>
            <p:cNvPr id="139" name="matzeget" descr=""/>
            <p:cNvPicPr/>
            <p:nvPr/>
          </p:nvPicPr>
          <p:blipFill>
            <a:blip r:embed="rId4"/>
            <a:stretch/>
          </p:blipFill>
          <p:spPr>
            <a:xfrm>
              <a:off x="4724280" y="1991160"/>
              <a:ext cx="3810240" cy="223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 rot="18718800">
              <a:off x="5138280" y="18900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ffc65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8718800">
              <a:off x="6370920" y="192456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800" spc="-1" strike="noStrike">
                  <a:solidFill>
                    <a:srgbClr val="00cc99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8718800">
              <a:off x="7661160" y="19008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99003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6858000" y="4876920"/>
            <a:ext cx="15541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520" y="13716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4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 &amp; Data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rchive Serv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ong term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urt eviden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ystem Manag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aintenance &amp; Fault managemen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rchive Server (ARCS)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Jukebox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Media management polic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e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Conten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Data (CRI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ranscrip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urt Evidence &amp; Playback St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48" name="jukebox" descr=""/>
          <p:cNvPicPr/>
          <p:nvPr/>
        </p:nvPicPr>
        <p:blipFill>
          <a:blip r:embed="rId5"/>
          <a:stretch/>
        </p:blipFill>
        <p:spPr>
          <a:xfrm>
            <a:off x="6095880" y="2666880"/>
            <a:ext cx="2379960" cy="24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 - Cont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xpoSy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formation distribu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Visual Analys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ocation Trac Station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subscriber lo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y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Comply with the la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Delivery Verif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LEA need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s i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If you know 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catch the ball you know 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thro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Security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AA &amp; Penetration protec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enti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oriz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di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Anti Viru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Network Level Securit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urn Key Solution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4920" y="9140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RealGate: 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 Enhanced 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 deliver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Store &amp; Forwar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Reliability: ammuns from network disconnec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Compress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 algn="ctr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Target Administration by LE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Country wide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520" y="1066680"/>
            <a:ext cx="7620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447920" y="1069920"/>
          <a:ext cx="7315200" cy="517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069920"/>
                    <a:ext cx="7315200" cy="51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Network optimiza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371600" y="1371600"/>
          <a:ext cx="7543800" cy="47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371600"/>
                    <a:ext cx="754380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nd to End experie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nce 1984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based on AudioDisk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all investment of 870 man-years in R&amp;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50 installed syste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0 countrie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complia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e winning team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duc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67" name="Kobe-Bryant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2539800" cy="2093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523880" y="4114800"/>
            <a:ext cx="762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core more points</a:t>
            </a: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 Win more gam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33526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26668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hilJackson-stand" descr=""/>
          <p:cNvPicPr/>
          <p:nvPr/>
        </p:nvPicPr>
        <p:blipFill>
          <a:blip r:embed="rId4"/>
          <a:stretch/>
        </p:blipFill>
        <p:spPr>
          <a:xfrm>
            <a:off x="6095880" y="1905120"/>
            <a:ext cx="2482920" cy="2482560"/>
          </a:xfrm>
          <a:prstGeom prst="rect">
            <a:avLst/>
          </a:prstGeom>
          <a:ln w="0">
            <a:noFill/>
          </a:ln>
        </p:spPr>
      </p:pic>
      <p:pic>
        <p:nvPicPr>
          <p:cNvPr id="172" name="david_stern" descr=""/>
          <p:cNvPicPr/>
          <p:nvPr/>
        </p:nvPicPr>
        <p:blipFill>
          <a:blip r:embed="rId5"/>
          <a:stretch/>
        </p:blipFill>
        <p:spPr>
          <a:xfrm>
            <a:off x="6324480" y="2666880"/>
            <a:ext cx="2324160" cy="3048120"/>
          </a:xfrm>
          <a:prstGeom prst="rect">
            <a:avLst/>
          </a:prstGeom>
          <a:ln w="0">
            <a:noFill/>
          </a:ln>
        </p:spPr>
      </p:pic>
      <p:pic>
        <p:nvPicPr>
          <p:cNvPr id="173" name="bryant_dunk" descr=""/>
          <p:cNvPicPr/>
          <p:nvPr/>
        </p:nvPicPr>
        <p:blipFill>
          <a:blip r:embed="rId6"/>
          <a:stretch/>
        </p:blipFill>
        <p:spPr>
          <a:xfrm>
            <a:off x="6477120" y="3657600"/>
            <a:ext cx="248256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a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TAR-GA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ull Network coverag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0f1e"/>
                </a:solidFill>
                <a:latin typeface="Arial"/>
              </a:rPr>
              <a:t>SAS:</a:t>
            </a: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 Same Administration &amp; Maint.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Monitor Cent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4Data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Protocol 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ystem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Network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Protocol Decoding Challenge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5280" y="10663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ver-expanding communication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fferent access mod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Dial-up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able mode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xDS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, Internet, 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ew versions, applications, protocol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eds for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cess various protocol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assive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4Data: all protocol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Dat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iewing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867280" y="1600200"/>
          <a:ext cx="2548080" cy="236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1600200"/>
                    <a:ext cx="25480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lete Solution: Interne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37160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WW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-mai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T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VoI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ha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038480"/>
            <a:ext cx="4114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obile Interne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1600200"/>
            <a:ext cx="4419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SP Acc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OL 5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muServe 2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Data Flow - Independent Conf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828800" y="1219320"/>
          <a:ext cx="7086600" cy="54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7086600" cy="54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tegration with other system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tandard Input / Output interfac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gration with..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elivery syst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ine tapping prob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nitoring Center (MC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st deploy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st-to-Cost vs. Team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5T19:31:41Z</dcterms:created>
  <dc:creator>Infosys</dc:creator>
  <dc:description/>
  <cp:keywords>Reliant TND</cp:keywords>
  <dc:language>en-US</dc:language>
  <cp:lastModifiedBy>Infosys</cp:lastModifiedBy>
  <cp:lastPrinted>2001-05-31T19:21:20Z</cp:lastPrinted>
  <dcterms:modified xsi:type="dcterms:W3CDTF">2001-06-04T13:47:31Z</dcterms:modified>
  <cp:revision>18</cp:revision>
  <dc:subject/>
  <dc:title>Total LI Compliance using Turn-key Applications and Solutions</dc:title>
</cp:coreProperties>
</file>